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6.jpeg" ContentType="image/jpeg"/>
  <Override PartName="/ppt/media/CAMER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434-CB99-46DA-9222-42E12A0CD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1A3F-C93C-40E1-A16A-536EEFB496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192-2AD7-4350-B68A-1DC1B23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4DE-A1C9-418F-A449-8EAB53C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E7C-2D70-4F1B-B5FA-B2C5675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B38-5166-4953-ACB0-81F95ECB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D82-9701-4734-8B3C-950BDA19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879-67F0-4D29-AE02-738EB26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1EA-C953-419F-AACE-9274079C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510-3D0F-4C0F-A626-4CA345DF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DD7-626C-4BFF-91DC-6563DB4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D8B-D6A5-491E-99E4-E159CD8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74A-1CEF-4BED-82CC-B1FD375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BF2-613E-4FD3-9045-E7F30A8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DA2-75A7-4950-A192-EFD11AE9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777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職業レディネス・テスト　第３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16360" y="3499920"/>
            <a:ext cx="2735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実施手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7236000" y="549360"/>
            <a:ext cx="1584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Ａ－２資料⑤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158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１：プロフィールの作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600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の標準得点を記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実線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点線で（色を変えても良い）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ASE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プロフィールを作成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作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ＶＲＴプロフィール1_1"/>
          <p:cNvPicPr/>
          <p:nvPr/>
        </p:nvPicPr>
        <p:blipFill>
          <a:blip r:embed="rId1"/>
          <a:stretch/>
        </p:blipFill>
        <p:spPr>
          <a:xfrm>
            <a:off x="4140360" y="260280"/>
            <a:ext cx="46717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158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２：プロフィールの解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600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から興味の分化を調べ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興味と自信の六角形」を作成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興味と自信の関係、バランスをみ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ＶＲＴワーク2_2"/>
          <p:cNvPicPr/>
          <p:nvPr/>
        </p:nvPicPr>
        <p:blipFill>
          <a:blip r:embed="rId1"/>
          <a:stretch/>
        </p:blipFill>
        <p:spPr>
          <a:xfrm>
            <a:off x="4140360" y="351000"/>
            <a:ext cx="47289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8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３　職業との照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興味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ASEC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第１領域を囲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囲まれた領域の中で、興味のある職業名をチェ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基礎的志向性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の第１領域が含まれる箱を囲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囲まれた中で、興味のある職業名をチェ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興味と基礎的志向性で共通にチェックされた職業名を書き出す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職業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ＶＲＴwork_2"/>
          <p:cNvPicPr/>
          <p:nvPr/>
        </p:nvPicPr>
        <p:blipFill>
          <a:blip r:embed="rId1"/>
          <a:stretch/>
        </p:blipFill>
        <p:spPr>
          <a:xfrm>
            <a:off x="304920" y="404640"/>
            <a:ext cx="8839080" cy="6180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2400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ＶＲＴワーク4_2"/>
          <p:cNvPicPr/>
          <p:nvPr/>
        </p:nvPicPr>
        <p:blipFill>
          <a:blip r:embed="rId1"/>
          <a:stretch/>
        </p:blipFill>
        <p:spPr>
          <a:xfrm>
            <a:off x="4067280" y="351000"/>
            <a:ext cx="4727520" cy="6507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3456000" cy="165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プラス　特別集計等、追加の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3384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「○」の合計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「－」の合計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下位尺度の「○」の数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解釈上のポイント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全体のレベル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プロフィールの分化度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プロフィールの一貫性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レベル、特徴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関係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56440" cy="424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興味と自信のプロフィー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解釈上のポイント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全体のレベル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それぞれの関係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例えば・・・単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型な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下位尺度のそれぞれのレベル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との関係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例えば・・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高い場合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高い場合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基礎的志向性のプロフィー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82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査の下位尺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95280" y="1995480"/>
            <a:ext cx="8280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検査表2"/>
          <p:cNvPicPr/>
          <p:nvPr/>
        </p:nvPicPr>
        <p:blipFill>
          <a:blip r:embed="rId1"/>
          <a:stretch/>
        </p:blipFill>
        <p:spPr>
          <a:xfrm>
            <a:off x="4211640" y="333360"/>
            <a:ext cx="4486320" cy="6172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3581280" cy="190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問題用紙</a:t>
            </a:r>
            <a:br>
              <a:rPr sz="44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Ａ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職業興味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3048120" cy="3657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仕事の内容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の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興味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い」、「どちらともいえない」、「やりたく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11640" y="333360"/>
            <a:ext cx="4537080" cy="6264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Ｄ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１（情報を集め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たくさんの情報を集めたいという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２（好奇心を満た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世の中や社会のしくみに対して好奇心が旺盛で、知り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い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３（情報を活用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集めた情報をきちんと整理し、順序立てて管理し、論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に活用したい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Ｐ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１（自分を表現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人前できちんと意見を述べ、自己表現を行いたいとい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２（みんなと行動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一人で過ごすよりたくさんの人と一緒に行動したいとい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３（人の役にたつ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人の気持ちに敏感で、他人の援助をしたいという気持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Ｔ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Ｔ１（物をつく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道具や機械を使うような物づくりを好む気持ち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強いことを示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Ｔ２（自然に親し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自然の環境の中で動植物を観察したり、身体を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かすことを好む気持ちが強いことを示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職業レディネス・テスト　第３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0956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回答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31308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とも１行目から番号順に縦に回答。１列終わったら、隣の行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VRT回答用紙1_2"/>
          <p:cNvPicPr/>
          <p:nvPr/>
        </p:nvPicPr>
        <p:blipFill>
          <a:blip r:embed="rId1"/>
          <a:stretch/>
        </p:blipFill>
        <p:spPr>
          <a:xfrm>
            <a:off x="4183200" y="333360"/>
            <a:ext cx="4733640" cy="619128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>
            <a:off x="4716360" y="1628640"/>
            <a:ext cx="0" cy="1152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003640" y="1628640"/>
            <a:ext cx="0" cy="1152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16360" y="3429000"/>
            <a:ext cx="0" cy="129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5076720" y="3500280"/>
            <a:ext cx="0" cy="1224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140360" y="404640"/>
            <a:ext cx="4752720" cy="6264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検査表紙2"/>
          <p:cNvPicPr/>
          <p:nvPr/>
        </p:nvPicPr>
        <p:blipFill>
          <a:blip r:embed="rId1"/>
          <a:stretch/>
        </p:blipFill>
        <p:spPr>
          <a:xfrm>
            <a:off x="4284720" y="333360"/>
            <a:ext cx="454824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37720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Ｂ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基礎的志向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日常生活の興味や行動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回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あてはまる」、「あてはまら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284720" y="333360"/>
            <a:ext cx="4535280" cy="619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検査表紙2"/>
          <p:cNvPicPr/>
          <p:nvPr/>
        </p:nvPicPr>
        <p:blipFill>
          <a:blip r:embed="rId1"/>
          <a:stretch/>
        </p:blipFill>
        <p:spPr>
          <a:xfrm>
            <a:off x="3962520" y="228600"/>
            <a:ext cx="4671720" cy="6431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4290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Ｃ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職務遂行の自信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34290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仕事の内容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の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自信度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自信がある」、「どちらともいえない」、「自信が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924360" y="260280"/>
            <a:ext cx="4680000" cy="6408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VRT回答用紙1_2"/>
          <p:cNvPicPr/>
          <p:nvPr/>
        </p:nvPicPr>
        <p:blipFill>
          <a:blip r:embed="rId1"/>
          <a:stretch/>
        </p:blipFill>
        <p:spPr>
          <a:xfrm>
            <a:off x="324000" y="1700280"/>
            <a:ext cx="3857400" cy="475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24000" y="1773360"/>
            <a:ext cx="3887640" cy="475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9280" y="476280"/>
            <a:ext cx="38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７．採点方法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0360" y="333360"/>
            <a:ext cx="4174920" cy="612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採点のときは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横一列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毎に○の数、ーの数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合計点＝「○」の数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２＋「－」の数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い」「自信がある」（○）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くない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信がない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×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・・・０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どちらともいえない」（ー）・・・１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39640" y="263700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539640" y="285264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539640" y="551664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539640" y="573408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059280" y="2565360"/>
            <a:ext cx="1008000" cy="1224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059280" y="5300640"/>
            <a:ext cx="1008000" cy="1224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VRT回答用紙1_2"/>
          <p:cNvPicPr/>
          <p:nvPr/>
        </p:nvPicPr>
        <p:blipFill>
          <a:blip r:embed="rId1"/>
          <a:stretch/>
        </p:blipFill>
        <p:spPr>
          <a:xfrm>
            <a:off x="324000" y="1700280"/>
            <a:ext cx="3857400" cy="47530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83" name="Rectangle 3"/>
          <p:cNvSpPr/>
          <p:nvPr/>
        </p:nvSpPr>
        <p:spPr>
          <a:xfrm>
            <a:off x="324000" y="1773360"/>
            <a:ext cx="3887640" cy="475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79280" y="476280"/>
            <a:ext cx="38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８．採点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360" y="333360"/>
            <a:ext cx="4174920" cy="612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採点のときは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横一列毎に○の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1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2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1</a:t>
            </a: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2</a:t>
            </a: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1</a:t>
            </a:r>
            <a:r>
              <a:rPr b="0" lang="ja-JP" sz="3200" spc="-1" strike="noStrike">
                <a:solidFill>
                  <a:srgbClr val="6633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</a:t>
            </a:r>
            <a:r>
              <a:rPr b="0" lang="ja-JP" sz="3200" spc="-1" strike="noStrike">
                <a:solidFill>
                  <a:srgbClr val="6633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11280" y="4076640"/>
            <a:ext cx="0" cy="936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84360" y="4076640"/>
            <a:ext cx="21589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987640" y="3933720"/>
            <a:ext cx="216000" cy="216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987640" y="4365720"/>
            <a:ext cx="216000" cy="215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987640" y="4869000"/>
            <a:ext cx="216000" cy="215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780000" y="4076640"/>
            <a:ext cx="215640" cy="216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ＶＲＴ換算表2_2"/>
          <p:cNvPicPr/>
          <p:nvPr/>
        </p:nvPicPr>
        <p:blipFill>
          <a:blip r:embed="rId1"/>
          <a:stretch/>
        </p:blipFill>
        <p:spPr>
          <a:xfrm>
            <a:off x="4500720" y="549360"/>
            <a:ext cx="4201920" cy="578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4392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標準得点の算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67164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回答用紙の合計点を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裏面の換算表の合計点へ転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際に▼マークで紙を折るとよ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合計点の値を粗点とし、対応する標準得点を記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男性は上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女性は下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49360"/>
            <a:ext cx="4248000" cy="583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3851280" cy="93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結果の整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68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ワークシートの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①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プロフィールの作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②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プロフィールの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③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職業との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④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プラ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特別集計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ＶＲＴワーク表紙_2"/>
          <p:cNvPicPr/>
          <p:nvPr/>
        </p:nvPicPr>
        <p:blipFill>
          <a:blip r:embed="rId1"/>
          <a:stretch/>
        </p:blipFill>
        <p:spPr>
          <a:xfrm>
            <a:off x="4643280" y="549360"/>
            <a:ext cx="4238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07:19:57Z</dcterms:created>
  <dc:creator>職務・キャリア分析</dc:creator>
  <dc:description/>
  <dc:language>en-US</dc:language>
  <cp:lastModifiedBy>厚生労働省ネットワークシステム</cp:lastModifiedBy>
  <cp:lastPrinted>2015-05-25T07:59:35Z</cp:lastPrinted>
  <dcterms:modified xsi:type="dcterms:W3CDTF">2015-05-25T10:52:29Z</dcterms:modified>
  <cp:revision>43</cp:revision>
  <dc:subject/>
  <dc:title>職業レディネス・テスト　第3版</dc:title>
</cp:coreProperties>
</file>